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3C77-D840-48C1-852A-0104021B7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EBB8-3B17-45C1-9B3C-1065BEB40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BDF1-505D-47A0-B8F7-07DAA5B1F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1E62-4733-4794-8D39-BA3EF41B5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7A61-A0F5-4919-A862-4A9F84B26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3A9D-57D7-4128-AACC-E3DD6DDC7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B76F-8A1D-40E0-BA1B-C2DC70D42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A24A-E1F8-439B-B9B9-439707436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0364-1296-49B1-B2B6-58BBA34F8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92AE-DF8B-4F9A-A79D-80971917A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E5DE-E130-4ACD-9AFB-DE5F552A0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6751-B2BC-4E63-9266-156549CBE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ECC05-C212-4E92-9599-9307E9FF64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introduction to probabilistic graphical model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the Bayes Net Toolbox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vin Mur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T AI L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 May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990720" y="228600"/>
            <a:ext cx="6686280" cy="641988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5327280" y="6234120"/>
            <a:ext cx="351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ure from S. Roweis &amp; Z. Ghahrama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e-space model (SSM)/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ar Dynamical System (LD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685800" y="1905120"/>
            <a:ext cx="4533840" cy="2743200"/>
            <a:chOff x="685800" y="1905120"/>
            <a:chExt cx="4533840" cy="2743200"/>
          </a:xfrm>
        </p:grpSpPr>
        <p:sp>
          <p:nvSpPr>
            <p:cNvPr id="209" name=""/>
            <p:cNvSpPr/>
            <p:nvPr/>
          </p:nvSpPr>
          <p:spPr>
            <a:xfrm>
              <a:off x="68580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4764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3052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85800" y="365760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104840" y="281952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3052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7242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4764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8954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638360" y="236232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390840" y="236232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92720" y="20988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7136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542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697840" y="40035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143000" y="6019920"/>
            <a:ext cx="6222960" cy="55872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596880" y="4952880"/>
            <a:ext cx="7670880" cy="53352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5637240" y="2133720"/>
            <a:ext cx="174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ue” 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622840" y="3851280"/>
            <a:ext cx="25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isy 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S for 2D trac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762120" y="4419720"/>
            <a:ext cx="2971800" cy="1752480"/>
            <a:chOff x="762120" y="4419720"/>
            <a:chExt cx="2971800" cy="1752480"/>
          </a:xfrm>
        </p:grpSpPr>
        <p:sp>
          <p:nvSpPr>
            <p:cNvPr id="230" name=""/>
            <p:cNvSpPr/>
            <p:nvPr/>
          </p:nvSpPr>
          <p:spPr>
            <a:xfrm>
              <a:off x="76212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93536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13380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62120" y="553896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036800" y="500400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13380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40848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93536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21004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38600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53548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7076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99008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209400" y="4419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990080" y="5639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4648320" cy="94464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457200" y="2666880"/>
            <a:ext cx="4114800" cy="1260720"/>
          </a:xfrm>
          <a:prstGeom prst="rect">
            <a:avLst/>
          </a:prstGeom>
          <a:ln w="0">
            <a:noFill/>
          </a:ln>
        </p:spPr>
      </p:pic>
      <p:grpSp>
        <p:nvGrpSpPr>
          <p:cNvPr id="247" name=""/>
          <p:cNvGrpSpPr/>
          <p:nvPr/>
        </p:nvGrpSpPr>
        <p:grpSpPr>
          <a:xfrm>
            <a:off x="5146200" y="3733920"/>
            <a:ext cx="2794320" cy="2895480"/>
            <a:chOff x="5146200" y="3733920"/>
            <a:chExt cx="2794320" cy="2895480"/>
          </a:xfrm>
        </p:grpSpPr>
        <p:grpSp>
          <p:nvGrpSpPr>
            <p:cNvPr id="248" name=""/>
            <p:cNvGrpSpPr/>
            <p:nvPr/>
          </p:nvGrpSpPr>
          <p:grpSpPr>
            <a:xfrm>
              <a:off x="5892480" y="3733920"/>
              <a:ext cx="381240" cy="2895480"/>
              <a:chOff x="5892480" y="3733920"/>
              <a:chExt cx="381240" cy="2895480"/>
            </a:xfrm>
          </p:grpSpPr>
          <p:sp>
            <p:nvSpPr>
              <p:cNvPr id="249" name=""/>
              <p:cNvSpPr/>
              <p:nvPr/>
            </p:nvSpPr>
            <p:spPr>
              <a:xfrm>
                <a:off x="5892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5892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892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892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892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892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7035480" y="3733920"/>
              <a:ext cx="381240" cy="2895480"/>
              <a:chOff x="7035480" y="3733920"/>
              <a:chExt cx="381240" cy="2895480"/>
            </a:xfrm>
          </p:grpSpPr>
          <p:sp>
            <p:nvSpPr>
              <p:cNvPr id="256" name=""/>
              <p:cNvSpPr/>
              <p:nvPr/>
            </p:nvSpPr>
            <p:spPr>
              <a:xfrm>
                <a:off x="7035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7035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7035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7035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035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035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2" name=""/>
            <p:cNvSpPr/>
            <p:nvPr/>
          </p:nvSpPr>
          <p:spPr>
            <a:xfrm>
              <a:off x="6273720" y="38862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273720" y="441972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273720" y="48006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273720" y="52578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6273720" y="480060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6273720" y="396252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8" name=""/>
            <p:cNvCxnSpPr>
              <a:stCxn id="251" idx="2"/>
              <a:endCxn id="252" idx="2"/>
            </p:cNvCxnSpPr>
            <p:nvPr/>
          </p:nvCxnSpPr>
          <p:spPr>
            <a:xfrm flipH="1" flipV="1" rot="10800000">
              <a:off x="5891400" y="4838400"/>
              <a:ext cx="2520" cy="1067760"/>
            </a:xfrm>
            <a:prstGeom prst="bentConnector3">
              <a:avLst>
                <a:gd name="adj1" fmla="val -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9" name=""/>
            <p:cNvCxnSpPr>
              <a:stCxn id="250" idx="2"/>
              <a:endCxn id="254" idx="2"/>
            </p:cNvCxnSpPr>
            <p:nvPr/>
          </p:nvCxnSpPr>
          <p:spPr>
            <a:xfrm flipH="1" flipV="1" rot="10800000">
              <a:off x="5891400" y="3923280"/>
              <a:ext cx="2520" cy="2515320"/>
            </a:xfrm>
            <a:prstGeom prst="bentConnector3">
              <a:avLst>
                <a:gd name="adj1" fmla="val -345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0" name=""/>
            <p:cNvCxnSpPr>
              <a:stCxn id="258" idx="6"/>
              <a:endCxn id="259" idx="6"/>
            </p:cNvCxnSpPr>
            <p:nvPr/>
          </p:nvCxnSpPr>
          <p:spPr>
            <a:xfrm>
              <a:off x="7416720" y="4838760"/>
              <a:ext cx="2160" cy="1067760"/>
            </a:xfrm>
            <a:prstGeom prst="bentConnector3">
              <a:avLst>
                <a:gd name="adj1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1" name=""/>
            <p:cNvCxnSpPr>
              <a:stCxn id="257" idx="6"/>
              <a:endCxn id="261" idx="6"/>
            </p:cNvCxnSpPr>
            <p:nvPr/>
          </p:nvCxnSpPr>
          <p:spPr>
            <a:xfrm>
              <a:off x="7416720" y="3924000"/>
              <a:ext cx="2160" cy="2515320"/>
            </a:xfrm>
            <a:prstGeom prst="bentConnector3">
              <a:avLst>
                <a:gd name="adj1" fmla="val 291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2" name=""/>
            <p:cNvSpPr/>
            <p:nvPr/>
          </p:nvSpPr>
          <p:spPr>
            <a:xfrm>
              <a:off x="5897160" y="374508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89716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5132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040160" y="37339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89716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132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896440" y="472464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89644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09020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039440" y="46483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03944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87088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045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188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045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188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189200" y="56833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989320" y="563904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970240" y="61405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132320" y="61722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5163120" y="1717560"/>
            <a:ext cx="400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rse linear Gaussian system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parse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dden Markov model (HMM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609480" y="1295280"/>
            <a:ext cx="4533840" cy="2743200"/>
            <a:chOff x="609480" y="1295280"/>
            <a:chExt cx="4533840" cy="2743200"/>
          </a:xfrm>
        </p:grpSpPr>
        <p:sp>
          <p:nvSpPr>
            <p:cNvPr id="295" name=""/>
            <p:cNvSpPr/>
            <p:nvPr/>
          </p:nvSpPr>
          <p:spPr>
            <a:xfrm>
              <a:off x="60948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4001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2289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09480" y="30481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028520" y="22096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2289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6479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4001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8191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561680" y="175248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314520" y="175248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16400" y="14889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73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4661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621520" y="339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304920" y="4952880"/>
            <a:ext cx="6781680" cy="50328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487840" y="1600200"/>
            <a:ext cx="196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nes/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560920" y="3429000"/>
            <a:ext cx="19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oustic sig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298280" y="4765680"/>
            <a:ext cx="133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i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29200" cy="49536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7375680" y="5756400"/>
            <a:ext cx="172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ussia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3911040" y="4191120"/>
            <a:ext cx="4882320" cy="459720"/>
            <a:chOff x="3911040" y="4191120"/>
            <a:chExt cx="4882320" cy="459720"/>
          </a:xfrm>
        </p:grpSpPr>
        <p:sp>
          <p:nvSpPr>
            <p:cNvPr id="317" name=""/>
            <p:cNvSpPr/>
            <p:nvPr/>
          </p:nvSpPr>
          <p:spPr>
            <a:xfrm>
              <a:off x="3911040" y="4191120"/>
              <a:ext cx="488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transition matrix </a:t>
              </a:r>
              <a:r>
                <a:rPr b="0" lang="en-US" sz="2400" spc="-1" strike="noStrike">
                  <a:solidFill>
                    <a:srgbClr val="000000"/>
                  </a:solidFill>
                  <a:latin typeface="cmsy10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grap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6934320" y="4266720"/>
              <a:ext cx="1522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99880" y="1073160"/>
            <a:ext cx="864396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sterior probabil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ility of any event given any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likely expla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enario that explains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ational decision ma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expected ut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ffect of interven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usal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5891040" y="3705120"/>
            <a:ext cx="2760480" cy="2640240"/>
            <a:chOff x="5891040" y="3705120"/>
            <a:chExt cx="2760480" cy="2640240"/>
          </a:xfrm>
        </p:grpSpPr>
        <p:sp>
          <p:nvSpPr>
            <p:cNvPr id="322" name=""/>
            <p:cNvSpPr/>
            <p:nvPr/>
          </p:nvSpPr>
          <p:spPr>
            <a:xfrm>
              <a:off x="6097320" y="3706920"/>
              <a:ext cx="110664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891040" y="48117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592760" y="37051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341840" y="48117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367400" y="5854680"/>
              <a:ext cx="9795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6406560" y="4187880"/>
              <a:ext cx="28404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846840" y="4183200"/>
              <a:ext cx="90000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7948080" y="42037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30" name=""/>
            <p:cNvCxnSpPr>
              <a:stCxn id="325" idx="4"/>
              <a:endCxn id="326" idx="0"/>
            </p:cNvCxnSpPr>
            <p:nvPr/>
          </p:nvCxnSpPr>
          <p:spPr>
            <a:xfrm flipH="1">
              <a:off x="7857720" y="53161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31" name=""/>
          <p:cNvSpPr/>
          <p:nvPr/>
        </p:nvSpPr>
        <p:spPr>
          <a:xfrm>
            <a:off x="5892840" y="4809960"/>
            <a:ext cx="1082520" cy="4892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365960" y="5853240"/>
            <a:ext cx="979560" cy="49032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C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294600" y="2986200"/>
            <a:ext cx="304560" cy="609480"/>
          </a:xfrm>
          <a:prstGeom prst="upArrow">
            <a:avLst>
              <a:gd name="adj1" fmla="val 50000"/>
              <a:gd name="adj2" fmla="val 50030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8153280" y="3078000"/>
            <a:ext cx="304920" cy="549360"/>
          </a:xfrm>
          <a:prstGeom prst="downArrow">
            <a:avLst>
              <a:gd name="adj1" fmla="val 50000"/>
              <a:gd name="adj2" fmla="val 4504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728120" y="3016080"/>
            <a:ext cx="304560" cy="609840"/>
          </a:xfrm>
          <a:prstGeom prst="upArrow">
            <a:avLst>
              <a:gd name="adj1" fmla="val 50000"/>
              <a:gd name="adj2" fmla="val 50059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6688080" y="2711520"/>
            <a:ext cx="304920" cy="884160"/>
          </a:xfrm>
          <a:prstGeom prst="downArrow">
            <a:avLst>
              <a:gd name="adj1" fmla="val 50000"/>
              <a:gd name="adj2" fmla="val 7249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88440" y="2286000"/>
            <a:ext cx="30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ining away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alman filtering (recursive state estimation in an LD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4876920" y="2209680"/>
            <a:ext cx="2971800" cy="1752480"/>
            <a:chOff x="4876920" y="2209680"/>
            <a:chExt cx="2971800" cy="1752480"/>
          </a:xfrm>
        </p:grpSpPr>
        <p:sp>
          <p:nvSpPr>
            <p:cNvPr id="341" name=""/>
            <p:cNvSpPr/>
            <p:nvPr/>
          </p:nvSpPr>
          <p:spPr>
            <a:xfrm>
              <a:off x="487692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05016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24860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876920" y="332892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151600" y="279396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24860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52328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05016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32484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50080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65028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88556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10488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324200" y="22096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104880" y="3429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3551400" cy="315756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470520" y="5146560"/>
            <a:ext cx="590544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rom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dict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X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e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 algorithm for HM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080" y="1066680"/>
            <a:ext cx="128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dic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080" y="3581280"/>
            <a:ext cx="129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d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457200" y="4952880"/>
            <a:ext cx="3657600" cy="63504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2"/>
          <a:stretch/>
        </p:blipFill>
        <p:spPr>
          <a:xfrm>
            <a:off x="685800" y="2666880"/>
            <a:ext cx="3809880" cy="723960"/>
          </a:xfrm>
          <a:prstGeom prst="rect">
            <a:avLst/>
          </a:prstGeom>
          <a:ln w="0">
            <a:noFill/>
          </a:ln>
        </p:spPr>
      </p:pic>
      <p:grpSp>
        <p:nvGrpSpPr>
          <p:cNvPr id="363" name=""/>
          <p:cNvGrpSpPr/>
          <p:nvPr/>
        </p:nvGrpSpPr>
        <p:grpSpPr>
          <a:xfrm>
            <a:off x="305280" y="5562720"/>
            <a:ext cx="6299640" cy="1063440"/>
            <a:chOff x="305280" y="5562720"/>
            <a:chExt cx="6299640" cy="1063440"/>
          </a:xfrm>
        </p:grpSpPr>
        <p:sp>
          <p:nvSpPr>
            <p:cNvPr id="364" name=""/>
            <p:cNvSpPr/>
            <p:nvPr/>
          </p:nvSpPr>
          <p:spPr>
            <a:xfrm>
              <a:off x="406080" y="6105600"/>
              <a:ext cx="6198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O(T S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time using dynamic programmin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05280" y="5562720"/>
              <a:ext cx="554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iscrete-state analog of Kalman filt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66" name="" descr=""/>
          <p:cNvPicPr/>
          <p:nvPr/>
        </p:nvPicPr>
        <p:blipFill>
          <a:blip r:embed="rId3"/>
          <a:stretch/>
        </p:blipFill>
        <p:spPr>
          <a:xfrm>
            <a:off x="609480" y="1676520"/>
            <a:ext cx="7358040" cy="67608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4"/>
          <a:stretch/>
        </p:blipFill>
        <p:spPr>
          <a:xfrm>
            <a:off x="380880" y="4343400"/>
            <a:ext cx="854244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ssage passing view of for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2057400" y="1981080"/>
            <a:ext cx="3935520" cy="2451600"/>
            <a:chOff x="2057400" y="1981080"/>
            <a:chExt cx="3935520" cy="2451600"/>
          </a:xfrm>
        </p:grpSpPr>
        <p:sp>
          <p:nvSpPr>
            <p:cNvPr id="370" name=""/>
            <p:cNvSpPr/>
            <p:nvPr/>
          </p:nvSpPr>
          <p:spPr>
            <a:xfrm>
              <a:off x="205740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115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1991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057400" y="3673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421000" y="3071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1991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5627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6115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9751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884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405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160360" y="255420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816360" y="257940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78320" y="251460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802320" y="39225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968560" y="246996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V="1">
              <a:off x="3679920" y="307152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919600" y="1981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282480" y="320040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495680" y="243828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V="1">
              <a:off x="5334120" y="304776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744440" y="3124080"/>
              <a:ext cx="569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2133720" y="4648320"/>
            <a:ext cx="4012920" cy="1929960"/>
            <a:chOff x="2133720" y="4648320"/>
            <a:chExt cx="4012920" cy="1929960"/>
          </a:xfrm>
        </p:grpSpPr>
        <p:pic>
          <p:nvPicPr>
            <p:cNvPr id="393" name="" descr=""/>
            <p:cNvPicPr/>
            <p:nvPr/>
          </p:nvPicPr>
          <p:blipFill>
            <a:blip r:embed="rId1"/>
            <a:stretch/>
          </p:blipFill>
          <p:spPr>
            <a:xfrm>
              <a:off x="2209680" y="5943600"/>
              <a:ext cx="3657600" cy="63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" descr=""/>
            <p:cNvPicPr/>
            <p:nvPr/>
          </p:nvPicPr>
          <p:blipFill>
            <a:blip r:embed="rId2"/>
            <a:stretch/>
          </p:blipFill>
          <p:spPr>
            <a:xfrm>
              <a:off x="2133720" y="4648320"/>
              <a:ext cx="4012920" cy="761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-back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914400" y="762120"/>
            <a:ext cx="6743520" cy="3241080"/>
            <a:chOff x="914400" y="762120"/>
            <a:chExt cx="6743520" cy="3241080"/>
          </a:xfrm>
        </p:grpSpPr>
        <p:sp>
          <p:nvSpPr>
            <p:cNvPr id="397" name=""/>
            <p:cNvSpPr/>
            <p:nvPr/>
          </p:nvSpPr>
          <p:spPr>
            <a:xfrm>
              <a:off x="91440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57804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29748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914400" y="301284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538280" y="217476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29748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2136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57804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20048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330280" y="1717560"/>
              <a:ext cx="1247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938480" y="1717560"/>
              <a:ext cx="1246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077480" y="145404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924360" y="14889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657840" y="148896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900600" y="33591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476440" y="13366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>
              <a:off x="5066640" y="126036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3695400" y="217476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484720" y="838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132880" y="762120"/>
              <a:ext cx="397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244320" y="232704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18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686800" cy="658800"/>
          </a:xfrm>
          <a:prstGeom prst="rect">
            <a:avLst/>
          </a:prstGeom>
          <a:ln w="0">
            <a:noFill/>
          </a:ln>
        </p:spPr>
      </p:pic>
      <p:pic>
        <p:nvPicPr>
          <p:cNvPr id="419" name="" descr=""/>
          <p:cNvPicPr/>
          <p:nvPr/>
        </p:nvPicPr>
        <p:blipFill>
          <a:blip r:embed="rId2"/>
          <a:stretch/>
        </p:blipFill>
        <p:spPr>
          <a:xfrm>
            <a:off x="1447920" y="6197760"/>
            <a:ext cx="6095880" cy="66024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/>
          <p:nvPr/>
        </p:nvSpPr>
        <p:spPr>
          <a:xfrm>
            <a:off x="290520" y="4334040"/>
            <a:ext cx="493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 analog of RTS smo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lief Propa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457200" y="3276720"/>
            <a:ext cx="7202520" cy="2681280"/>
            <a:chOff x="457200" y="3276720"/>
            <a:chExt cx="7202520" cy="2681280"/>
          </a:xfrm>
        </p:grpSpPr>
        <p:grpSp>
          <p:nvGrpSpPr>
            <p:cNvPr id="423" name=""/>
            <p:cNvGrpSpPr/>
            <p:nvPr/>
          </p:nvGrpSpPr>
          <p:grpSpPr>
            <a:xfrm>
              <a:off x="457200" y="4073760"/>
              <a:ext cx="2584440" cy="1884240"/>
              <a:chOff x="457200" y="4073760"/>
              <a:chExt cx="2584440" cy="1884240"/>
            </a:xfrm>
          </p:grpSpPr>
          <p:sp>
            <p:nvSpPr>
              <p:cNvPr id="424" name=""/>
              <p:cNvSpPr/>
              <p:nvPr/>
            </p:nvSpPr>
            <p:spPr>
              <a:xfrm>
                <a:off x="45720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31580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78264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170172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236520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78884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65896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70164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160164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160020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70784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61288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111744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731520" y="479268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19" y="29"/>
                    </a:moveTo>
                    <a:lnTo>
                      <a:pt x="36" y="35"/>
                    </a:lnTo>
                    <a:lnTo>
                      <a:pt x="0" y="155"/>
                    </a:lnTo>
                    <a:lnTo>
                      <a:pt x="34" y="166"/>
                    </a:lnTo>
                    <a:lnTo>
                      <a:pt x="70" y="45"/>
                    </a:lnTo>
                    <a:lnTo>
                      <a:pt x="88" y="50"/>
                    </a:lnTo>
                    <a:lnTo>
                      <a:pt x="65" y="0"/>
                    </a:lnTo>
                    <a:lnTo>
                      <a:pt x="19" y="29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1141200" y="4603680"/>
                <a:ext cx="185760" cy="235080"/>
              </a:xfrm>
              <a:custGeom>
                <a:avLst/>
                <a:gdLst/>
                <a:ahLst/>
                <a:rect l="l" t="t" r="r" b="b"/>
                <a:pathLst>
                  <a:path w="117" h="148">
                    <a:moveTo>
                      <a:pt x="117" y="92"/>
                    </a:moveTo>
                    <a:lnTo>
                      <a:pt x="102" y="103"/>
                    </a:lnTo>
                    <a:lnTo>
                      <a:pt x="30" y="0"/>
                    </a:lnTo>
                    <a:lnTo>
                      <a:pt x="0" y="21"/>
                    </a:lnTo>
                    <a:lnTo>
                      <a:pt x="73" y="124"/>
                    </a:lnTo>
                    <a:lnTo>
                      <a:pt x="58" y="134"/>
                    </a:lnTo>
                    <a:lnTo>
                      <a:pt x="112" y="148"/>
                    </a:lnTo>
                    <a:lnTo>
                      <a:pt x="117" y="92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1658880" y="4545000"/>
                <a:ext cx="168120" cy="250920"/>
              </a:xfrm>
              <a:custGeom>
                <a:avLst/>
                <a:gdLst/>
                <a:ahLst/>
                <a:rect l="l" t="t" r="r" b="b"/>
                <a:pathLst>
                  <a:path w="106" h="158">
                    <a:moveTo>
                      <a:pt x="64" y="137"/>
                    </a:moveTo>
                    <a:lnTo>
                      <a:pt x="48" y="129"/>
                    </a:lnTo>
                    <a:lnTo>
                      <a:pt x="106" y="17"/>
                    </a:lnTo>
                    <a:lnTo>
                      <a:pt x="74" y="0"/>
                    </a:lnTo>
                    <a:lnTo>
                      <a:pt x="16" y="112"/>
                    </a:lnTo>
                    <a:lnTo>
                      <a:pt x="0" y="104"/>
                    </a:lnTo>
                    <a:lnTo>
                      <a:pt x="12" y="158"/>
                    </a:lnTo>
                    <a:lnTo>
                      <a:pt x="64" y="137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896840" y="4932360"/>
                <a:ext cx="266760" cy="119160"/>
              </a:xfrm>
              <a:custGeom>
                <a:avLst/>
                <a:gdLst/>
                <a:ahLst/>
                <a:rect l="l" t="t" r="r" b="b"/>
                <a:pathLst>
                  <a:path w="168" h="75">
                    <a:moveTo>
                      <a:pt x="121" y="0"/>
                    </a:moveTo>
                    <a:lnTo>
                      <a:pt x="124" y="18"/>
                    </a:lnTo>
                    <a:lnTo>
                      <a:pt x="0" y="40"/>
                    </a:lnTo>
                    <a:lnTo>
                      <a:pt x="6" y="75"/>
                    </a:lnTo>
                    <a:lnTo>
                      <a:pt x="130" y="54"/>
                    </a:lnTo>
                    <a:lnTo>
                      <a:pt x="133" y="71"/>
                    </a:lnTo>
                    <a:lnTo>
                      <a:pt x="168" y="29"/>
                    </a:lnTo>
                    <a:lnTo>
                      <a:pt x="121" y="0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1614240" y="5300640"/>
                <a:ext cx="174600" cy="243000"/>
              </a:xfrm>
              <a:custGeom>
                <a:avLst/>
                <a:gdLst/>
                <a:ahLst/>
                <a:rect l="l" t="t" r="r" b="b"/>
                <a:pathLst>
                  <a:path w="110" h="153">
                    <a:moveTo>
                      <a:pt x="0" y="54"/>
                    </a:moveTo>
                    <a:lnTo>
                      <a:pt x="15" y="45"/>
                    </a:lnTo>
                    <a:lnTo>
                      <a:pt x="79" y="153"/>
                    </a:lnTo>
                    <a:lnTo>
                      <a:pt x="110" y="135"/>
                    </a:lnTo>
                    <a:lnTo>
                      <a:pt x="46" y="27"/>
                    </a:lnTo>
                    <a:lnTo>
                      <a:pt x="62" y="18"/>
                    </a:lnTo>
                    <a:lnTo>
                      <a:pt x="9" y="0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2608200" y="5138640"/>
                <a:ext cx="155520" cy="258840"/>
              </a:xfrm>
              <a:custGeom>
                <a:avLst/>
                <a:gdLst/>
                <a:ahLst/>
                <a:rect l="l" t="t" r="r" b="b"/>
                <a:pathLst>
                  <a:path w="98" h="163">
                    <a:moveTo>
                      <a:pt x="0" y="53"/>
                    </a:moveTo>
                    <a:lnTo>
                      <a:pt x="17" y="46"/>
                    </a:lnTo>
                    <a:lnTo>
                      <a:pt x="65" y="163"/>
                    </a:lnTo>
                    <a:lnTo>
                      <a:pt x="98" y="149"/>
                    </a:lnTo>
                    <a:lnTo>
                      <a:pt x="50" y="32"/>
                    </a:lnTo>
                    <a:lnTo>
                      <a:pt x="67" y="25"/>
                    </a:lnTo>
                    <a:lnTo>
                      <a:pt x="18" y="0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2366640" y="47102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6" name=""/>
            <p:cNvSpPr/>
            <p:nvPr/>
          </p:nvSpPr>
          <p:spPr>
            <a:xfrm>
              <a:off x="593280" y="3353040"/>
              <a:ext cx="106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ll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772080" y="3768840"/>
              <a:ext cx="3887640" cy="5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8" name=""/>
            <p:cNvGrpSpPr/>
            <p:nvPr/>
          </p:nvGrpSpPr>
          <p:grpSpPr>
            <a:xfrm>
              <a:off x="4267080" y="4073760"/>
              <a:ext cx="2585880" cy="1884240"/>
              <a:chOff x="4267080" y="4073760"/>
              <a:chExt cx="2585880" cy="1884240"/>
            </a:xfrm>
          </p:grpSpPr>
          <p:sp>
            <p:nvSpPr>
              <p:cNvPr id="449" name=""/>
              <p:cNvSpPr/>
              <p:nvPr/>
            </p:nvSpPr>
            <p:spPr>
              <a:xfrm>
                <a:off x="426708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512568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59252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551160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617508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559872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646884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451152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41152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541008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551772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642276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492732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4532040" y="478332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69" y="137"/>
                    </a:moveTo>
                    <a:lnTo>
                      <a:pt x="52" y="131"/>
                    </a:lnTo>
                    <a:lnTo>
                      <a:pt x="88" y="11"/>
                    </a:lnTo>
                    <a:lnTo>
                      <a:pt x="54" y="0"/>
                    </a:lnTo>
                    <a:lnTo>
                      <a:pt x="18" y="121"/>
                    </a:lnTo>
                    <a:lnTo>
                      <a:pt x="0" y="116"/>
                    </a:lnTo>
                    <a:lnTo>
                      <a:pt x="23" y="166"/>
                    </a:lnTo>
                    <a:lnTo>
                      <a:pt x="69" y="137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4966920" y="4618080"/>
                <a:ext cx="182520" cy="238320"/>
              </a:xfrm>
              <a:custGeom>
                <a:avLst/>
                <a:gdLst/>
                <a:ahLst/>
                <a:rect l="l" t="t" r="r" b="b"/>
                <a:pathLst>
                  <a:path w="115" h="150">
                    <a:moveTo>
                      <a:pt x="0" y="55"/>
                    </a:moveTo>
                    <a:lnTo>
                      <a:pt x="15" y="45"/>
                    </a:lnTo>
                    <a:lnTo>
                      <a:pt x="85" y="150"/>
                    </a:lnTo>
                    <a:lnTo>
                      <a:pt x="115" y="130"/>
                    </a:lnTo>
                    <a:lnTo>
                      <a:pt x="45" y="25"/>
                    </a:lnTo>
                    <a:lnTo>
                      <a:pt x="60" y="15"/>
                    </a:lnTo>
                    <a:lnTo>
                      <a:pt x="7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5462280" y="4559400"/>
                <a:ext cx="168120" cy="249120"/>
              </a:xfrm>
              <a:custGeom>
                <a:avLst/>
                <a:gdLst/>
                <a:ahLst/>
                <a:rect l="l" t="t" r="r" b="b"/>
                <a:pathLst>
                  <a:path w="106" h="157">
                    <a:moveTo>
                      <a:pt x="43" y="20"/>
                    </a:moveTo>
                    <a:lnTo>
                      <a:pt x="58" y="28"/>
                    </a:lnTo>
                    <a:lnTo>
                      <a:pt x="0" y="140"/>
                    </a:lnTo>
                    <a:lnTo>
                      <a:pt x="32" y="157"/>
                    </a:lnTo>
                    <a:lnTo>
                      <a:pt x="90" y="45"/>
                    </a:lnTo>
                    <a:lnTo>
                      <a:pt x="106" y="53"/>
                    </a:lnTo>
                    <a:lnTo>
                      <a:pt x="94" y="0"/>
                    </a:lnTo>
                    <a:lnTo>
                      <a:pt x="43" y="20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709960" y="4951440"/>
                <a:ext cx="268200" cy="115920"/>
              </a:xfrm>
              <a:custGeom>
                <a:avLst/>
                <a:gdLst/>
                <a:ahLst/>
                <a:rect l="l" t="t" r="r" b="b"/>
                <a:pathLst>
                  <a:path w="169" h="73">
                    <a:moveTo>
                      <a:pt x="47" y="73"/>
                    </a:moveTo>
                    <a:lnTo>
                      <a:pt x="45" y="55"/>
                    </a:lnTo>
                    <a:lnTo>
                      <a:pt x="169" y="36"/>
                    </a:lnTo>
                    <a:lnTo>
                      <a:pt x="164" y="0"/>
                    </a:lnTo>
                    <a:lnTo>
                      <a:pt x="39" y="20"/>
                    </a:lnTo>
                    <a:lnTo>
                      <a:pt x="37" y="2"/>
                    </a:lnTo>
                    <a:lnTo>
                      <a:pt x="0" y="44"/>
                    </a:lnTo>
                    <a:lnTo>
                      <a:pt x="47" y="73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5418000" y="5284800"/>
                <a:ext cx="171360" cy="246240"/>
              </a:xfrm>
              <a:custGeom>
                <a:avLst/>
                <a:gdLst/>
                <a:ahLst/>
                <a:rect l="l" t="t" r="r" b="b"/>
                <a:pathLst>
                  <a:path w="108" h="155">
                    <a:moveTo>
                      <a:pt x="108" y="101"/>
                    </a:moveTo>
                    <a:lnTo>
                      <a:pt x="92" y="110"/>
                    </a:lnTo>
                    <a:lnTo>
                      <a:pt x="31" y="0"/>
                    </a:lnTo>
                    <a:lnTo>
                      <a:pt x="0" y="17"/>
                    </a:lnTo>
                    <a:lnTo>
                      <a:pt x="61" y="127"/>
                    </a:lnTo>
                    <a:lnTo>
                      <a:pt x="45" y="136"/>
                    </a:lnTo>
                    <a:lnTo>
                      <a:pt x="97" y="155"/>
                    </a:lnTo>
                    <a:lnTo>
                      <a:pt x="108" y="10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6422760" y="5127840"/>
                <a:ext cx="150840" cy="258480"/>
              </a:xfrm>
              <a:custGeom>
                <a:avLst/>
                <a:gdLst/>
                <a:ahLst/>
                <a:rect l="l" t="t" r="r" b="b"/>
                <a:pathLst>
                  <a:path w="95" h="163">
                    <a:moveTo>
                      <a:pt x="95" y="111"/>
                    </a:moveTo>
                    <a:lnTo>
                      <a:pt x="78" y="118"/>
                    </a:lnTo>
                    <a:lnTo>
                      <a:pt x="33" y="0"/>
                    </a:lnTo>
                    <a:lnTo>
                      <a:pt x="0" y="13"/>
                    </a:lnTo>
                    <a:lnTo>
                      <a:pt x="45" y="131"/>
                    </a:lnTo>
                    <a:lnTo>
                      <a:pt x="28" y="137"/>
                    </a:lnTo>
                    <a:lnTo>
                      <a:pt x="77" y="163"/>
                    </a:lnTo>
                    <a:lnTo>
                      <a:pt x="95" y="11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4267080" y="520704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5127480" y="490212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4593960" y="4221360"/>
                <a:ext cx="382680" cy="38232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5513040" y="557532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6176520" y="471168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5600520" y="407520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6470280" y="54626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7" name=""/>
            <p:cNvSpPr/>
            <p:nvPr/>
          </p:nvSpPr>
          <p:spPr>
            <a:xfrm>
              <a:off x="4479480" y="3276720"/>
              <a:ext cx="140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istribu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"/>
          <p:cNvSpPr/>
          <p:nvPr/>
        </p:nvSpPr>
        <p:spPr>
          <a:xfrm>
            <a:off x="6781680" y="6324480"/>
            <a:ext cx="21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P. Gre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74400" y="1905120"/>
            <a:ext cx="756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ization of forwards-backwards algo. /RTS smoothe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chains to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363320" y="1143000"/>
            <a:ext cx="57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ka Pearl’s algorithm, sum-product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ntroduction to 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P: parallel, distributed ver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457200" y="5486400"/>
            <a:ext cx="7269120" cy="1155600"/>
            <a:chOff x="457200" y="5486400"/>
            <a:chExt cx="7269120" cy="1155600"/>
          </a:xfrm>
        </p:grpSpPr>
        <p:pic>
          <p:nvPicPr>
            <p:cNvPr id="483" name="" descr=""/>
            <p:cNvPicPr/>
            <p:nvPr/>
          </p:nvPicPr>
          <p:blipFill>
            <a:blip r:embed="rId1"/>
            <a:stretch/>
          </p:blipFill>
          <p:spPr>
            <a:xfrm>
              <a:off x="457200" y="5486400"/>
              <a:ext cx="7269120" cy="115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4" name=""/>
            <p:cNvSpPr/>
            <p:nvPr/>
          </p:nvSpPr>
          <p:spPr>
            <a:xfrm>
              <a:off x="457200" y="5867280"/>
              <a:ext cx="1523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09680" y="6477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733920" y="6477120"/>
              <a:ext cx="144756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4343400" y="2133720"/>
            <a:ext cx="3429000" cy="1710720"/>
            <a:chOff x="4343400" y="2133720"/>
            <a:chExt cx="3429000" cy="1710720"/>
          </a:xfrm>
        </p:grpSpPr>
        <p:sp>
          <p:nvSpPr>
            <p:cNvPr id="488" name=""/>
            <p:cNvSpPr/>
            <p:nvPr/>
          </p:nvSpPr>
          <p:spPr>
            <a:xfrm>
              <a:off x="4419360" y="216828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343400" y="3235320"/>
              <a:ext cx="68580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162560" y="2778120"/>
              <a:ext cx="60984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867280" y="2778120"/>
              <a:ext cx="60948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V="1">
              <a:off x="5029200" y="315900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105160" y="2549520"/>
              <a:ext cx="838440" cy="38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476760" y="30826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629400" y="2854080"/>
              <a:ext cx="609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257800" y="2396880"/>
              <a:ext cx="533160" cy="2282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flipV="1">
              <a:off x="5257800" y="3387600"/>
              <a:ext cx="609480" cy="22824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488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488480" y="3200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93640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231680" y="28191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2" name=""/>
          <p:cNvGrpSpPr/>
          <p:nvPr/>
        </p:nvGrpSpPr>
        <p:grpSpPr>
          <a:xfrm>
            <a:off x="380880" y="2057400"/>
            <a:ext cx="3429000" cy="1711440"/>
            <a:chOff x="380880" y="2057400"/>
            <a:chExt cx="3429000" cy="1711440"/>
          </a:xfrm>
        </p:grpSpPr>
        <p:sp>
          <p:nvSpPr>
            <p:cNvPr id="503" name=""/>
            <p:cNvSpPr/>
            <p:nvPr/>
          </p:nvSpPr>
          <p:spPr>
            <a:xfrm>
              <a:off x="457200" y="209232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80880" y="3159000"/>
              <a:ext cx="68580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200400" y="2701800"/>
              <a:ext cx="60948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904760" y="2701800"/>
              <a:ext cx="60984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flipV="1">
              <a:off x="1066680" y="308304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143000" y="2473200"/>
              <a:ext cx="83808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514600" y="30067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295280" y="2320920"/>
              <a:ext cx="533520" cy="2286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flipV="1">
              <a:off x="1295280" y="3311280"/>
              <a:ext cx="609480" cy="22860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25960" y="2057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25960" y="312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973880" y="2666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26916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flipH="1">
              <a:off x="2514240" y="2743200"/>
              <a:ext cx="685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7" name=""/>
          <p:cNvGrpSpPr/>
          <p:nvPr/>
        </p:nvGrpSpPr>
        <p:grpSpPr>
          <a:xfrm>
            <a:off x="380880" y="4191120"/>
            <a:ext cx="7467840" cy="1143000"/>
            <a:chOff x="380880" y="4191120"/>
            <a:chExt cx="7467840" cy="1143000"/>
          </a:xfrm>
        </p:grpSpPr>
        <p:pic>
          <p:nvPicPr>
            <p:cNvPr id="518" name="" descr=""/>
            <p:cNvPicPr/>
            <p:nvPr/>
          </p:nvPicPr>
          <p:blipFill>
            <a:blip r:embed="rId2"/>
            <a:stretch/>
          </p:blipFill>
          <p:spPr>
            <a:xfrm>
              <a:off x="380880" y="4191120"/>
              <a:ext cx="746784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9" name=""/>
            <p:cNvSpPr/>
            <p:nvPr/>
          </p:nvSpPr>
          <p:spPr>
            <a:xfrm>
              <a:off x="1295280" y="5334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5334120"/>
              <a:ext cx="144792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638680" y="5334120"/>
              <a:ext cx="15242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2" name=""/>
          <p:cNvSpPr/>
          <p:nvPr/>
        </p:nvSpPr>
        <p:spPr>
          <a:xfrm>
            <a:off x="25927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7931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erence in general grap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is only guaranteed to be correct for tr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eneral graph should be converted to 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junction tre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hich satisfies the running intersection property (RI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P ensures local propagation =&gt; global consistenc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143000" y="472428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145520" y="495288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590920" y="4724280"/>
            <a:ext cx="914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745360" y="495288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191120" y="480060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269960" y="495288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C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057400" y="5181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505320" y="5181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086600" y="480060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562720" y="4800600"/>
            <a:ext cx="914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105520" y="5257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477120" y="5257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7225200" y="49179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7530120" y="49179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869440" y="4952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286000" y="60199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410080" y="609588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364480" y="6095880"/>
            <a:ext cx="104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C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472720" y="6054840"/>
            <a:ext cx="77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unction 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6" name=""/>
          <p:cNvGrpSpPr/>
          <p:nvPr/>
        </p:nvGrpSpPr>
        <p:grpSpPr>
          <a:xfrm>
            <a:off x="304920" y="914400"/>
            <a:ext cx="8229240" cy="2590920"/>
            <a:chOff x="304920" y="914400"/>
            <a:chExt cx="8229240" cy="2590920"/>
          </a:xfrm>
        </p:grpSpPr>
        <p:pic>
          <p:nvPicPr>
            <p:cNvPr id="547" name="" descr=""/>
            <p:cNvPicPr/>
            <p:nvPr/>
          </p:nvPicPr>
          <p:blipFill>
            <a:blip r:embed="rId1"/>
            <a:stretch/>
          </p:blipFill>
          <p:spPr>
            <a:xfrm>
              <a:off x="304920" y="914400"/>
              <a:ext cx="3757320" cy="259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8" name="fig15.10" descr=""/>
            <p:cNvPicPr/>
            <p:nvPr/>
          </p:nvPicPr>
          <p:blipFill>
            <a:blip r:embed="rId2"/>
            <a:stretch/>
          </p:blipFill>
          <p:spPr>
            <a:xfrm>
              <a:off x="4969440" y="1245240"/>
              <a:ext cx="3564720" cy="200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9" name=""/>
            <p:cNvSpPr/>
            <p:nvPr/>
          </p:nvSpPr>
          <p:spPr>
            <a:xfrm>
              <a:off x="1859760" y="1973880"/>
              <a:ext cx="81432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303080" y="1841400"/>
              <a:ext cx="1036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1" name=""/>
          <p:cNvSpPr/>
          <p:nvPr/>
        </p:nvSpPr>
        <p:spPr>
          <a:xfrm>
            <a:off x="289080" y="3774960"/>
            <a:ext cx="7800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alize” G (if directed), ie., marry parents with child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an elimination ordering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 G chordal by triangulating according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 “meganodes” from maximal cliques C of chordal 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nect meganodes into junction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tree is the min spanning tree of the j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Symbol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Symbol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654720" y="3352680"/>
            <a:ext cx="376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des in jtree are sets of rv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 flipV="1">
            <a:off x="6019920" y="2361960"/>
            <a:ext cx="2286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utational complexity of exact discrete inferenc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G have N discrete nodes with S val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w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the width induced by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ie., the size of the largest cl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m: Inference takes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N 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m: finding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argmin w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NP-h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m: For an N=n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 grid, w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67560" y="5638680"/>
            <a:ext cx="806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xact inference is computationally intractable in many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avoid exponential complexity of exact inference in discrete loopy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cannot compute messages in closed form (even for trees) in the non-linear/non-Gaussian 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istic approximations: loopy BP, mean field, structured variational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hastic approximations: MCMC (Gibbs sampling), likelihood weighting, particle filtering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95560" y="4952880"/>
            <a:ext cx="67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Algorithms make different speed/accuracy tradeof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68920" y="5486400"/>
            <a:ext cx="668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hould provide the user with a choice of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meter estimation: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Symbo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sele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3" name="" descr=""/>
          <p:cNvPicPr/>
          <p:nvPr/>
        </p:nvPicPr>
        <p:blipFill>
          <a:blip r:embed="rId1"/>
          <a:stretch/>
        </p:blipFill>
        <p:spPr>
          <a:xfrm>
            <a:off x="1447920" y="4952880"/>
            <a:ext cx="5856120" cy="712800"/>
          </a:xfrm>
          <a:prstGeom prst="rect">
            <a:avLst/>
          </a:prstGeom>
          <a:ln w="0">
            <a:noFill/>
          </a:ln>
        </p:spPr>
      </p:pic>
      <p:pic>
        <p:nvPicPr>
          <p:cNvPr id="564" name="" descr=""/>
          <p:cNvPicPr/>
          <p:nvPr/>
        </p:nvPicPr>
        <p:blipFill>
          <a:blip r:embed="rId2"/>
          <a:stretch/>
        </p:blipFill>
        <p:spPr>
          <a:xfrm>
            <a:off x="380880" y="2819520"/>
            <a:ext cx="83566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meter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6" name="" descr=""/>
          <p:cNvPicPr/>
          <p:nvPr/>
        </p:nvPicPr>
        <p:blipFill>
          <a:blip r:embed="rId1"/>
          <a:stretch/>
        </p:blipFill>
        <p:spPr>
          <a:xfrm>
            <a:off x="2971800" y="1600200"/>
            <a:ext cx="6743880" cy="7867800"/>
          </a:xfrm>
          <a:prstGeom prst="rect">
            <a:avLst/>
          </a:prstGeom>
          <a:ln w="0">
            <a:noFill/>
          </a:ln>
        </p:spPr>
      </p:pic>
      <p:sp>
        <p:nvSpPr>
          <p:cNvPr id="567" name=""/>
          <p:cNvSpPr/>
          <p:nvPr/>
        </p:nvSpPr>
        <p:spPr>
          <a:xfrm>
            <a:off x="7110000" y="632448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ure from M. Jord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881520" y="1143000"/>
            <a:ext cx="490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itional Probability Tables (CP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9" name=""/>
          <p:cNvGraphicFramePr/>
          <p:nvPr/>
        </p:nvGraphicFramePr>
        <p:xfrm>
          <a:off x="228600" y="1828800"/>
          <a:ext cx="2819520" cy="248904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  <a:gridCol w="457200"/>
                <a:gridCol w="457200"/>
                <a:gridCol w="457200"/>
                <a:gridCol w="53352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0" name=""/>
          <p:cNvSpPr/>
          <p:nvPr/>
        </p:nvSpPr>
        <p:spPr>
          <a:xfrm>
            <a:off x="3276720" y="2895480"/>
            <a:ext cx="6858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56480" y="1143000"/>
            <a:ext cx="10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meter learning in DA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3" name="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6400800" cy="1249560"/>
          </a:xfrm>
          <a:prstGeom prst="rect">
            <a:avLst/>
          </a:prstGeom>
          <a:ln w="0">
            <a:noFill/>
          </a:ln>
        </p:spPr>
      </p:pic>
      <p:sp>
        <p:nvSpPr>
          <p:cNvPr id="574" name=""/>
          <p:cNvSpPr/>
          <p:nvPr/>
        </p:nvSpPr>
        <p:spPr>
          <a:xfrm>
            <a:off x="219960" y="914400"/>
            <a:ext cx="866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 DAG, the log-likelihood decomposes into a sum of local te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057400" y="312408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260880" y="3124080"/>
            <a:ext cx="61596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4491000" y="312408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057400" y="404964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338560" y="3606840"/>
            <a:ext cx="0" cy="442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491000" y="408924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772160" y="3646440"/>
            <a:ext cx="0" cy="442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260880" y="4089240"/>
            <a:ext cx="61596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543480" y="3646440"/>
            <a:ext cx="0" cy="442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697120" y="3365640"/>
            <a:ext cx="563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876840" y="3365640"/>
            <a:ext cx="563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169360" y="31240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361320" y="31240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580640" y="31240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361320" y="40384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23200" y="2590920"/>
            <a:ext cx="656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nce can optimize each CPD independently, e.g.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1" name="" descr=""/>
          <p:cNvPicPr/>
          <p:nvPr/>
        </p:nvPicPr>
        <p:blipFill>
          <a:blip r:embed="rId2"/>
          <a:stretch/>
        </p:blipFill>
        <p:spPr>
          <a:xfrm>
            <a:off x="304920" y="5877000"/>
            <a:ext cx="7493040" cy="981000"/>
          </a:xfrm>
          <a:prstGeom prst="rect">
            <a:avLst/>
          </a:prstGeom>
          <a:ln w="0">
            <a:noFill/>
          </a:ln>
        </p:spPr>
      </p:pic>
      <p:pic>
        <p:nvPicPr>
          <p:cNvPr id="592" name="" descr=""/>
          <p:cNvPicPr/>
          <p:nvPr/>
        </p:nvPicPr>
        <p:blipFill>
          <a:blip r:embed="rId3"/>
          <a:stretch/>
        </p:blipFill>
        <p:spPr>
          <a:xfrm>
            <a:off x="304920" y="4648320"/>
            <a:ext cx="7778520" cy="93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ling with partial observ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training an HMM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hidden, so the log-likelihood no longer decomposes: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use Expectation Maximization (EM) algorithm (Baum Welch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 step: compute expected number of tran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 step : use expected counts as if they were r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aranteed to converge to a local optimum of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can use (constrained) gradient asc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5" name="" descr=""/>
          <p:cNvPicPr/>
          <p:nvPr/>
        </p:nvPicPr>
        <p:blipFill>
          <a:blip r:embed="rId1"/>
          <a:stretch/>
        </p:blipFill>
        <p:spPr>
          <a:xfrm>
            <a:off x="152280" y="1973160"/>
            <a:ext cx="8661600" cy="932040"/>
          </a:xfrm>
          <a:prstGeom prst="rect">
            <a:avLst/>
          </a:prstGeom>
          <a:ln w="0">
            <a:noFill/>
          </a:ln>
        </p:spPr>
      </p:pic>
      <p:pic>
        <p:nvPicPr>
          <p:cNvPr id="596" name="" descr=""/>
          <p:cNvPicPr/>
          <p:nvPr/>
        </p:nvPicPr>
        <p:blipFill>
          <a:blip r:embed="rId2"/>
          <a:stretch/>
        </p:blipFill>
        <p:spPr>
          <a:xfrm>
            <a:off x="1066680" y="5573880"/>
            <a:ext cx="5639040" cy="12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data minin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8" name=""/>
          <p:cNvGraphicFramePr/>
          <p:nvPr/>
        </p:nvGraphicFramePr>
        <p:xfrm>
          <a:off x="4325760" y="2209680"/>
          <a:ext cx="4818240" cy="401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25760" y="2209680"/>
                    <a:ext cx="4818240" cy="401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0" name=""/>
          <p:cNvSpPr/>
          <p:nvPr/>
        </p:nvSpPr>
        <p:spPr>
          <a:xfrm>
            <a:off x="0" y="2743200"/>
            <a:ext cx="4114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 express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1" name="eisen_label" descr=""/>
          <p:cNvPicPr/>
          <p:nvPr/>
        </p:nvPicPr>
        <p:blipFill>
          <a:blip r:embed="rId3"/>
          <a:stretch/>
        </p:blipFill>
        <p:spPr>
          <a:xfrm>
            <a:off x="-380880" y="3505320"/>
            <a:ext cx="3620880" cy="2714400"/>
          </a:xfrm>
          <a:prstGeom prst="rect">
            <a:avLst/>
          </a:prstGeom>
          <a:ln w="0">
            <a:noFill/>
          </a:ln>
        </p:spPr>
      </p:pic>
      <p:sp>
        <p:nvSpPr>
          <p:cNvPr id="602" name=""/>
          <p:cNvSpPr/>
          <p:nvPr/>
        </p:nvSpPr>
        <p:spPr>
          <a:xfrm>
            <a:off x="3124080" y="3962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937120" y="6248520"/>
            <a:ext cx="27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probabilistic model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er probable causes from partial/ noisy observations using Bayes’ rule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ds from acou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s from im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eases from sympto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fidence bounds on predic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isk modeling, information gather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compression/ channel co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447920" y="2209680"/>
            <a:ext cx="5689440" cy="12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-360" y="990720"/>
            <a:ext cx="8755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ing the optimal structure is NP-hard (except for tre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nce use heuristic search through space of DAGs 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PDAGs or node orde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arch algorithms: hill climbing, simulated annealing, G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ring function is often marginal likelihood, or 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ximation like BIC/MDL or A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6" name="" descr=""/>
          <p:cNvPicPr/>
          <p:nvPr/>
        </p:nvPicPr>
        <p:blipFill>
          <a:blip r:embed="rId1"/>
          <a:stretch/>
        </p:blipFill>
        <p:spPr>
          <a:xfrm>
            <a:off x="228600" y="3809880"/>
            <a:ext cx="8083440" cy="2538360"/>
          </a:xfrm>
          <a:prstGeom prst="rect">
            <a:avLst/>
          </a:prstGeom>
          <a:ln w="0">
            <a:noFill/>
          </a:ln>
        </p:spPr>
      </p:pic>
      <p:sp>
        <p:nvSpPr>
          <p:cNvPr id="607" name=""/>
          <p:cNvSpPr/>
          <p:nvPr/>
        </p:nvSpPr>
        <p:spPr>
          <a:xfrm>
            <a:off x="5337720" y="525780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tructural complexity penal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67280" y="571500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are graphical models usefu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Factored representation may have exponentially fewer parameters than full joint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time complexity (less time for infer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sample complexity (less data for learn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Graph  structure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ular representation of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l, distributed algorithms for inference and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uitive (possibly causal) interpre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The Bayes Net Toolbox 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’s de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to use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GM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NT is an open-source collection of matlab functions for inference and learning of (directed) 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ed in Summer 1997 (DEC CRL), development continued while at UC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 100,000 hits and about 30,000 downloads since May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out 43,000 lines of code (of which 8,000 are comment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609480" y="457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1997, there were very few BN programs, and all failed to satisfy the following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esidera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real-valued (vector)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learning (params and str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time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exact and approximate i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eparate API from 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MRFs as well as 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possible to add new models and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open-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easy to read/ mod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285560" y="6172200"/>
            <a:ext cx="586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meets all these criteria except for the 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comparison of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9" name="bnsoft_snagit" descr=""/>
          <p:cNvPicPr/>
          <p:nvPr/>
        </p:nvPicPr>
        <p:blipFill>
          <a:blip r:embed="rId1"/>
          <a:stretch/>
        </p:blipFill>
        <p:spPr>
          <a:xfrm>
            <a:off x="1219320" y="952560"/>
            <a:ext cx="7018200" cy="5905440"/>
          </a:xfrm>
          <a:prstGeom prst="rect">
            <a:avLst/>
          </a:prstGeom>
          <a:ln w="0">
            <a:noFill/>
          </a:ln>
        </p:spPr>
      </p:pic>
      <p:sp>
        <p:nvSpPr>
          <p:cNvPr id="620" name=""/>
          <p:cNvSpPr/>
          <p:nvPr/>
        </p:nvSpPr>
        <p:spPr>
          <a:xfrm>
            <a:off x="228600" y="3581280"/>
            <a:ext cx="8686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ww.ai.mit.edu/~murphyk/Software/Bayes/bnsoft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existing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8 commercial produc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nalytica, BayesiaLab, Bayesware, Business Navigator, Ergo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ug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MIM,  Netica)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cused on data mining and decision support; most have free “student” ver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30 academic programs, of which ~20 have source code (mostly Java, some C++/ Lis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focus on exact inference in discrete, static, directed graphs (notable exceptions: BUGS and VIB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have nice GUIs and databas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79360" y="5908680"/>
            <a:ext cx="85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contains more features than most of these packages combine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interactive development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numerical algorithms (e.g., SV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data visu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other toolboxes, e.g., netl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is high-level and easy to read (e.g., Kalman filter in 5 lines of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lab is the lingua franca of engineers and N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license is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or support for complex data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languages I would consider in hindsigh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sh, R, Ocaml, Numpy, Lisp, Jav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45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NT’s class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bnet, mnet, DBN, factor graph, influence (decision) dia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P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Gaussian, tabular, softmax, et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otentia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discrete, Gaussian, mix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nference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ct - junction tree, variable eli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ximate - (loopy) belief propagation, sam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Learning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meters – EM, (conjugate gradi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ure - MCMC over graphs, K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mixture of expe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9" name="mixexp_data" descr=""/>
          <p:cNvPicPr/>
          <p:nvPr/>
        </p:nvPicPr>
        <p:blipFill>
          <a:blip r:embed="rId1"/>
          <a:stretch/>
        </p:blipFill>
        <p:spPr>
          <a:xfrm>
            <a:off x="4114800" y="1143000"/>
            <a:ext cx="3886200" cy="3056040"/>
          </a:xfrm>
          <a:prstGeom prst="rect">
            <a:avLst/>
          </a:prstGeom>
          <a:ln w="0">
            <a:noFill/>
          </a:ln>
        </p:spPr>
      </p:pic>
      <p:grpSp>
        <p:nvGrpSpPr>
          <p:cNvPr id="630" name=""/>
          <p:cNvGrpSpPr/>
          <p:nvPr/>
        </p:nvGrpSpPr>
        <p:grpSpPr>
          <a:xfrm>
            <a:off x="905400" y="1219320"/>
            <a:ext cx="1094760" cy="2971800"/>
            <a:chOff x="905400" y="1219320"/>
            <a:chExt cx="1094760" cy="2971800"/>
          </a:xfrm>
        </p:grpSpPr>
        <p:sp>
          <p:nvSpPr>
            <p:cNvPr id="631" name=""/>
            <p:cNvSpPr/>
            <p:nvPr/>
          </p:nvSpPr>
          <p:spPr>
            <a:xfrm>
              <a:off x="1162080" y="12193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162080" y="35053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238040" y="24386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392840" y="25146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619280" y="30481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619280" y="19814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37" name=""/>
            <p:cNvCxnSpPr>
              <a:stCxn id="631" idx="2"/>
              <a:endCxn id="632" idx="2"/>
            </p:cNvCxnSpPr>
            <p:nvPr/>
          </p:nvCxnSpPr>
          <p:spPr>
            <a:xfrm flipH="1" flipV="1" rot="10800000">
              <a:off x="1142640" y="15620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638" name="" descr=""/>
          <p:cNvPicPr/>
          <p:nvPr/>
        </p:nvPicPr>
        <p:blipFill>
          <a:blip r:embed="rId2"/>
          <a:stretch/>
        </p:blipFill>
        <p:spPr>
          <a:xfrm>
            <a:off x="533520" y="4419720"/>
            <a:ext cx="4724280" cy="1544400"/>
          </a:xfrm>
          <a:prstGeom prst="rect">
            <a:avLst/>
          </a:prstGeom>
          <a:ln w="0">
            <a:noFill/>
          </a:ln>
        </p:spPr>
      </p:pic>
      <p:pic>
        <p:nvPicPr>
          <p:cNvPr id="639" name="" descr=""/>
          <p:cNvPicPr/>
          <p:nvPr/>
        </p:nvPicPr>
        <p:blipFill>
          <a:blip r:embed="rId3"/>
          <a:stretch/>
        </p:blipFill>
        <p:spPr>
          <a:xfrm>
            <a:off x="419040" y="5942160"/>
            <a:ext cx="8078760" cy="639720"/>
          </a:xfrm>
          <a:prstGeom prst="rect">
            <a:avLst/>
          </a:prstGeom>
          <a:ln w="0">
            <a:noFill/>
          </a:ln>
        </p:spPr>
      </p:pic>
      <p:sp>
        <p:nvSpPr>
          <p:cNvPr id="640" name=""/>
          <p:cNvSpPr/>
          <p:nvPr/>
        </p:nvSpPr>
        <p:spPr>
          <a:xfrm>
            <a:off x="4495680" y="1905120"/>
            <a:ext cx="160020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V="1">
            <a:off x="6095880" y="1981080"/>
            <a:ext cx="16765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465520" y="4765680"/>
            <a:ext cx="324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max/logistic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graphical mode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M is a parsimonious representation of a joint probability distribution,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odes represent random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dges represent direct dependence (“causality” in the directed cas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lack of edges represent conditional independenc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Making the 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4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45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1" name=""/>
            <p:cNvCxnSpPr>
              <a:stCxn id="645" idx="2"/>
              <a:endCxn id="646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52" name=""/>
          <p:cNvSpPr/>
          <p:nvPr/>
        </p:nvSpPr>
        <p:spPr>
          <a:xfrm>
            <a:off x="287640" y="1590840"/>
            <a:ext cx="3838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 = 1; Q = 2; Y = 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 = zeros(3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X, [Q Y]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Q, Y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28160" y="3546360"/>
            <a:ext cx="6725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s are (sparse) adjacency matr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I would be useful for creating complex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titive graph structure (e.g., chains, grids) is be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d using a script (as abov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Mak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514080" y="1971720"/>
            <a:ext cx="6215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ode_sizes = [1 2 1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nodes = [2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 = mk_bnet(dag, node_sizes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‘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screte’, dnod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57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63" name=""/>
            <p:cNvCxnSpPr>
              <a:stCxn id="657" idx="2"/>
              <a:endCxn id="658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64" name=""/>
          <p:cNvSpPr/>
          <p:nvPr/>
        </p:nvSpPr>
        <p:spPr>
          <a:xfrm>
            <a:off x="354960" y="3927600"/>
            <a:ext cx="8505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is always observed input, hence only one effective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 is a hidden binary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is a hidden scalar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net is a struct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k_bnet has many optional arguments, passed as string/value pa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Specifying the parame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7839720" y="1676520"/>
            <a:ext cx="1094760" cy="2971800"/>
            <a:chOff x="7839720" y="1676520"/>
            <a:chExt cx="1094760" cy="2971800"/>
          </a:xfrm>
        </p:grpSpPr>
        <p:sp>
          <p:nvSpPr>
            <p:cNvPr id="667" name=""/>
            <p:cNvSpPr/>
            <p:nvPr/>
          </p:nvSpPr>
          <p:spPr>
            <a:xfrm>
              <a:off x="80964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80964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81723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83271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85536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85536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3" name=""/>
            <p:cNvCxnSpPr>
              <a:stCxn id="667" idx="2"/>
              <a:endCxn id="668" idx="2"/>
            </p:cNvCxnSpPr>
            <p:nvPr/>
          </p:nvCxnSpPr>
          <p:spPr>
            <a:xfrm flipH="1" flipV="1" rot="10800000">
              <a:off x="80769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74" name=""/>
          <p:cNvSpPr/>
          <p:nvPr/>
        </p:nvSpPr>
        <p:spPr>
          <a:xfrm>
            <a:off x="437400" y="1971720"/>
            <a:ext cx="676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X} = root_CPD(bne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Q} = softmax_CPD(bnet, Q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Y} = gaussian_CPD(bnet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13720" y="3774960"/>
            <a:ext cx="725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Ds are objects which support various methods such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t_from_CPD_to_pot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imize_params_given_expected_suff_st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is created with random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constructor has many optional argu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Train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80880" y="914400"/>
            <a:ext cx="6939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ad data –asci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cases = size(data, 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 = cell(3, n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served = [X Y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(observed, :) = num2cell(data’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295560" y="2895480"/>
            <a:ext cx="721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ining data is stored in cell arrays (slow!), to allow f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-sized nodes and missing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s{i,t} = value of node i in case 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28600" y="426708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, observed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71880" y="4800600"/>
            <a:ext cx="72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inference engine could be used for this trivia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224280" y="5257800"/>
            <a:ext cx="731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2 = learn_params_em(engine, 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82960" y="5680080"/>
            <a:ext cx="722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use EM since the Q nodes are hidden during t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_params_em is a function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867800" y="380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7867800" y="2666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7943760" y="1600200"/>
            <a:ext cx="76212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8098560" y="1676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8325000" y="22096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8325000" y="11430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9" name=""/>
          <p:cNvCxnSpPr>
            <a:stCxn id="683" idx="2"/>
            <a:endCxn id="684" idx="2"/>
          </p:cNvCxnSpPr>
          <p:nvPr/>
        </p:nvCxnSpPr>
        <p:spPr>
          <a:xfrm flipH="1" flipV="1" rot="10800000">
            <a:off x="7848360" y="723600"/>
            <a:ext cx="2160" cy="2286720"/>
          </a:xfrm>
          <a:prstGeom prst="bentConnector3">
            <a:avLst>
              <a:gd name="adj1" fmla="val -132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fore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1" name="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0866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fter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3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010280" cy="56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. Inference/ predi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380880" y="1219320"/>
            <a:ext cx="82296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 = cell(1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{X} = 0.68; % Q and Y are hid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enter_evidence(engine, evidenc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 = marginal_nodes(engine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mu % E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Sigma % Cov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6" name=""/>
          <p:cNvGrpSpPr/>
          <p:nvPr/>
        </p:nvGrpSpPr>
        <p:grpSpPr>
          <a:xfrm>
            <a:off x="7687080" y="3657600"/>
            <a:ext cx="1094760" cy="2971800"/>
            <a:chOff x="7687080" y="3657600"/>
            <a:chExt cx="1094760" cy="2971800"/>
          </a:xfrm>
        </p:grpSpPr>
        <p:sp>
          <p:nvSpPr>
            <p:cNvPr id="697" name=""/>
            <p:cNvSpPr/>
            <p:nvPr/>
          </p:nvSpPr>
          <p:spPr>
            <a:xfrm>
              <a:off x="7943760" y="365760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943760" y="594360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8019720" y="487692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8174520" y="49528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8400960" y="548640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8400960" y="44197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697" idx="2"/>
              <a:endCxn id="698" idx="2"/>
            </p:cNvCxnSpPr>
            <p:nvPr/>
          </p:nvCxnSpPr>
          <p:spPr>
            <a:xfrm flipH="1" flipV="1" rot="10800000">
              <a:off x="7924320" y="400032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kinds of CPDs that BNT suppo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5" name=""/>
          <p:cNvGraphicFramePr/>
          <p:nvPr/>
        </p:nvGraphicFramePr>
        <p:xfrm>
          <a:off x="380880" y="1523880"/>
          <a:ext cx="8229600" cy="45892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597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tribu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2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bular, noisy-or, decision tre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1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ditional Gaus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ftma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near Gaussian, ML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ther kinds of models that BNT suppor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8380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lassification/ regress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inear regression, logistic regression, cluster weighted regression,  hierarchical mixtures of experts, naïve Ba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imensionality redu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PCA, factor analysis, probabilistic 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ensity estim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mixtures of Gaussi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tate-space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DS, switching LDS, tree-structured AR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MM varia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input-output HMM, factorial HMM, coupled HMM, DB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robabilistic expert syste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QMR, Alarm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Limited-memory influence diagra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LIM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Undirected graphical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MRF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look under the ho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EM is implemen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junction tree inference is implemen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abilistic graphical mod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1744560"/>
            <a:ext cx="7924680" cy="4046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950360" y="1127160"/>
            <a:ext cx="35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abilistic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43400" y="2568600"/>
            <a:ext cx="39625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637000"/>
            <a:ext cx="41911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133720" y="277344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409360" y="2773440"/>
            <a:ext cx="199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990720"/>
            <a:ext cx="815364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41040" y="1951200"/>
            <a:ext cx="306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370880" y="3578400"/>
            <a:ext cx="2230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xture of Gaussia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CA/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ïve Bayes class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M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te-space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105520" y="3600360"/>
            <a:ext cx="2266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kov Random Fi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ltzmann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ing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x-ent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-linear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521000" y="318456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ayesian belief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638680" y="3184560"/>
            <a:ext cx="19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arkov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EM is implement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1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5065560"/>
          </a:xfrm>
          <a:prstGeom prst="rect">
            <a:avLst/>
          </a:prstGeom>
          <a:ln w="0">
            <a:noFill/>
          </a:ln>
        </p:spPr>
      </p:pic>
      <p:sp>
        <p:nvSpPr>
          <p:cNvPr id="712" name=""/>
          <p:cNvSpPr/>
          <p:nvPr/>
        </p:nvSpPr>
        <p:spPr>
          <a:xfrm>
            <a:off x="1704960" y="4648320"/>
            <a:ext cx="721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ach CPD class extracts its own expected sufficient sta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 flipV="1">
            <a:off x="2590920" y="4266720"/>
            <a:ext cx="76176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909360" y="6035760"/>
            <a:ext cx="785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ach CPD class knows how to compute ML param. estimates, 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.g., softmax uses I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flipV="1">
            <a:off x="2133720" y="5638680"/>
            <a:ext cx="99036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050800" y="1447920"/>
            <a:ext cx="1737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(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| e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H="1">
            <a:off x="1523520" y="1905120"/>
            <a:ext cx="3886200" cy="17524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junction tree inference is implement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 the jtree from the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tialize the clique potentials with evi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n belief propagation on the j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Creating a junction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1" name="" descr=""/>
          <p:cNvPicPr/>
          <p:nvPr/>
        </p:nvPicPr>
        <p:blipFill>
          <a:blip r:embed="rId1"/>
          <a:stretch/>
        </p:blipFill>
        <p:spPr>
          <a:xfrm>
            <a:off x="1295280" y="1066680"/>
            <a:ext cx="6334200" cy="5448600"/>
          </a:xfrm>
          <a:prstGeom prst="rect">
            <a:avLst/>
          </a:prstGeom>
          <a:ln w="0">
            <a:noFill/>
          </a:ln>
        </p:spPr>
      </p:pic>
      <p:sp>
        <p:nvSpPr>
          <p:cNvPr id="722" name=""/>
          <p:cNvSpPr/>
          <p:nvPr/>
        </p:nvSpPr>
        <p:spPr>
          <a:xfrm>
            <a:off x="4876920" y="3733920"/>
            <a:ext cx="3047760" cy="2514600"/>
          </a:xfrm>
          <a:prstGeom prst="rect">
            <a:avLst/>
          </a:pr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1676520" y="3733920"/>
            <a:ext cx="3047760" cy="25146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287640" y="1184400"/>
            <a:ext cx="387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s my graph theory toolbo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170040" y="2819520"/>
            <a:ext cx="277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P-hard to optimiz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 flipH="1" flipV="1">
            <a:off x="5791320" y="281916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Initializing the clique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8" name="" descr=""/>
          <p:cNvPicPr/>
          <p:nvPr/>
        </p:nvPicPr>
        <p:blipFill>
          <a:blip r:embed="rId1"/>
          <a:stretch/>
        </p:blipFill>
        <p:spPr>
          <a:xfrm>
            <a:off x="533520" y="1373040"/>
            <a:ext cx="8534160" cy="510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Belief propagation (centralize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0" name="" descr=""/>
          <p:cNvPicPr/>
          <p:nvPr/>
        </p:nvPicPr>
        <p:blipFill>
          <a:blip r:embed="rId1"/>
          <a:stretch/>
        </p:blipFill>
        <p:spPr>
          <a:xfrm>
            <a:off x="838080" y="1066680"/>
            <a:ext cx="7391520" cy="4552920"/>
          </a:xfrm>
          <a:prstGeom prst="rect">
            <a:avLst/>
          </a:prstGeom>
          <a:ln w="0">
            <a:noFill/>
          </a:ln>
        </p:spPr>
      </p:pic>
      <p:pic>
        <p:nvPicPr>
          <p:cNvPr id="731" name="" descr=""/>
          <p:cNvPicPr/>
          <p:nvPr/>
        </p:nvPicPr>
        <p:blipFill>
          <a:blip r:embed="rId2"/>
          <a:stretch/>
        </p:blipFill>
        <p:spPr>
          <a:xfrm>
            <a:off x="5410080" y="2666880"/>
            <a:ext cx="3098880" cy="1168560"/>
          </a:xfrm>
          <a:prstGeom prst="rect">
            <a:avLst/>
          </a:prstGeom>
          <a:ln w="0">
            <a:noFill/>
          </a:ln>
        </p:spPr>
      </p:pic>
      <p:sp>
        <p:nvSpPr>
          <p:cNvPr id="732" name=""/>
          <p:cNvSpPr/>
          <p:nvPr/>
        </p:nvSpPr>
        <p:spPr>
          <a:xfrm flipH="1">
            <a:off x="2666880" y="3276720"/>
            <a:ext cx="289584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 flipH="1" flipV="1">
            <a:off x="2362320" y="5105520"/>
            <a:ext cx="259056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4" name="" descr=""/>
          <p:cNvPicPr/>
          <p:nvPr/>
        </p:nvPicPr>
        <p:blipFill>
          <a:blip r:embed="rId3"/>
          <a:stretch/>
        </p:blipFill>
        <p:spPr>
          <a:xfrm>
            <a:off x="5257800" y="5257800"/>
            <a:ext cx="3505320" cy="13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discrete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6" name="" descr=""/>
          <p:cNvPicPr/>
          <p:nvPr/>
        </p:nvPicPr>
        <p:blipFill>
          <a:blip r:embed="rId1"/>
          <a:stretch/>
        </p:blipFill>
        <p:spPr>
          <a:xfrm>
            <a:off x="228600" y="3657600"/>
            <a:ext cx="8381880" cy="533520"/>
          </a:xfrm>
          <a:prstGeom prst="rect">
            <a:avLst/>
          </a:prstGeom>
          <a:ln w="0">
            <a:noFill/>
          </a:ln>
        </p:spPr>
      </p:pic>
      <p:pic>
        <p:nvPicPr>
          <p:cNvPr id="737" name="" descr=""/>
          <p:cNvPicPr/>
          <p:nvPr/>
        </p:nvPicPr>
        <p:blipFill>
          <a:blip r:embed="rId2"/>
          <a:stretch/>
        </p:blipFill>
        <p:spPr>
          <a:xfrm>
            <a:off x="228600" y="1752480"/>
            <a:ext cx="8280360" cy="1041480"/>
          </a:xfrm>
          <a:prstGeom prst="rect">
            <a:avLst/>
          </a:prstGeom>
          <a:ln w="0">
            <a:noFill/>
          </a:ln>
        </p:spPr>
      </p:pic>
      <p:sp>
        <p:nvSpPr>
          <p:cNvPr id="738" name=""/>
          <p:cNvSpPr/>
          <p:nvPr/>
        </p:nvSpPr>
        <p:spPr>
          <a:xfrm>
            <a:off x="209880" y="955800"/>
            <a:ext cx="21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gin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09520" y="293688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213120" y="4384800"/>
            <a:ext cx="12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v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1" name="" descr=""/>
          <p:cNvPicPr/>
          <p:nvPr/>
        </p:nvPicPr>
        <p:blipFill>
          <a:blip r:embed="rId3"/>
          <a:stretch/>
        </p:blipFill>
        <p:spPr>
          <a:xfrm>
            <a:off x="473040" y="5060880"/>
            <a:ext cx="8047080" cy="46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Gaussian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osed-form formulae for marginalization, multiplication and “division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use moment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o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onical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(1)/O(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complexity per op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xtures of Gaussian potentials are not closed under marginalization, so need approximations (moment match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mi-r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defining * and +, same code implements Kalman filter and forwards algorith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placing + with max, can convert from forwards (sum-product) to Viterbi algorithm (max-product)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works on any commutative semi-ring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kinds of inference algo’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opy belief propag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 not require constructing a j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 passing slightly simp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iterate; may not conve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successful in practice, e.g., turbocodes/ LD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ctured variational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use jtree/BP as subrou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more math; less turn-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bbs samp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llel, distributed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operations require random number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iterate; may take long time to conve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B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different kinds of models/ CPDs – lego brick philoso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inference algorithms, with different speed/ accuracy/ generality tradeoffs (to be chosen by us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several learning algorithms (parameters and structu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rce code is easy to read and ext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y example of a Bayes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533520" y="990720"/>
            <a:ext cx="3124080" cy="2895480"/>
            <a:chOff x="533520" y="990720"/>
            <a:chExt cx="3124080" cy="2895480"/>
          </a:xfrm>
        </p:grpSpPr>
        <p:sp>
          <p:nvSpPr>
            <p:cNvPr id="65" name=""/>
            <p:cNvSpPr/>
            <p:nvPr/>
          </p:nvSpPr>
          <p:spPr>
            <a:xfrm>
              <a:off x="1524240" y="990720"/>
              <a:ext cx="106668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814760" y="11844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3520" y="2057400"/>
              <a:ext cx="1066680" cy="8384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24400" y="2251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590920" y="2133720"/>
              <a:ext cx="106668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881800" y="23274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600200" y="3048120"/>
              <a:ext cx="106704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0720" y="324180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447920" y="281952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1371240" y="1752840"/>
              <a:ext cx="38124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8640" y="1676520"/>
              <a:ext cx="4572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2590560" y="297180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33520" y="4267080"/>
            <a:ext cx="7696080" cy="21081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365360" y="1295280"/>
            <a:ext cx="2268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&lt;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318560" y="1866960"/>
            <a:ext cx="2203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R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, 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559680" y="3317760"/>
            <a:ext cx="472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Conditional Probabilit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4647960" y="3809880"/>
            <a:ext cx="152280" cy="114300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791320" y="3886200"/>
            <a:ext cx="914400" cy="9907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40040" y="879480"/>
            <a:ext cx="83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56880" y="650880"/>
            <a:ext cx="14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nces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477480" y="60948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ar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638680" y="1066680"/>
            <a:ext cx="76320" cy="4572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476760" y="990720"/>
            <a:ext cx="53316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82720" y="1828800"/>
            <a:ext cx="6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other interesting GM proj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N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Networks Library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-source C++, based on BNT, work in progress (due 12/0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MT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Graphical Models toolkit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mes, Zweig/ U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 source C++, designed for ASR (HTK)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 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utoBay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code generat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ischer, Buntine/NASA Am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log generates matlab/C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t avail. to pub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IB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variational inference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n / Bishop, U. Cambrid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jugate exponential models, work in 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BUG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piegelhalter et al., MRC U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bbs sampling for Bayesian DAGs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. since ’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Graphical Models in R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uritzen et al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 in 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 find out mor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1219320" y="2844720"/>
            <a:ext cx="665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ww.ai.mit.edu/~murphyk/Bayes/bayes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32360" y="1793880"/>
            <a:ext cx="84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#3 Google rated site on GMs (after the journal “Graphical Models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09480" y="1085760"/>
            <a:ext cx="8153640" cy="51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main: Monitoring Intensive-Care Pati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7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09 param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ead of 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5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3027240" y="2016000"/>
            <a:ext cx="5900760" cy="4632480"/>
            <a:chOff x="3027240" y="2016000"/>
            <a:chExt cx="5900760" cy="4632480"/>
          </a:xfrm>
        </p:grpSpPr>
        <p:sp>
          <p:nvSpPr>
            <p:cNvPr id="91" name=""/>
            <p:cNvSpPr/>
            <p:nvPr/>
          </p:nvSpPr>
          <p:spPr>
            <a:xfrm>
              <a:off x="3738240" y="589572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CW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338360" y="58910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063840" y="610524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62680" y="5900760"/>
              <a:ext cx="4330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EK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472160" y="59054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389720" y="5410080"/>
              <a:ext cx="6778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CAUT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848280" y="541476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103720" y="5429160"/>
              <a:ext cx="609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ISTOR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362200" y="492444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ATECH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652640" y="4438440"/>
              <a:ext cx="5050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A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405480" y="44193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XP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948280" y="39621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RT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943240" y="346716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ALV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2240" y="297180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LU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764120" y="301788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I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070480" y="2531880"/>
              <a:ext cx="857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ISCONNEC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265880" y="2016000"/>
              <a:ext cx="780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VOLSE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303680" y="2531880"/>
              <a:ext cx="641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MAC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64000" y="2482560"/>
              <a:ext cx="7952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KINKED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81240" y="2495520"/>
              <a:ext cx="7952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TUB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882960" y="249552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ULMEMBOLU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890880" y="29718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A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424040" y="297180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HU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428640" y="395280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NAPHYLAXI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5280" y="3457440"/>
              <a:ext cx="5331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OV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352840" y="394812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V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405040" y="345744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I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21440" y="33084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ES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267160" y="444816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SUFFANEST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585960" y="444816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P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7636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FAILUR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763960" y="5422680"/>
              <a:ext cx="10396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BLOWOUTPU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12740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TROE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08736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ED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195440" y="2773080"/>
              <a:ext cx="74520" cy="20484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803480" y="2757240"/>
              <a:ext cx="297000" cy="228600"/>
            </a:xfrm>
            <a:custGeom>
              <a:avLst/>
              <a:gdLst/>
              <a:ahLst/>
              <a:rect l="l" t="t" r="r" b="b"/>
              <a:pathLst>
                <a:path w="192" h="144">
                  <a:moveTo>
                    <a:pt x="192" y="0"/>
                  </a:moveTo>
                  <a:cubicBezTo>
                    <a:pt x="192" y="0"/>
                    <a:pt x="96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640280" y="2293920"/>
              <a:ext cx="76320" cy="23796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173800" y="2803320"/>
              <a:ext cx="228600" cy="228600"/>
            </a:xfrm>
            <a:custGeom>
              <a:avLst/>
              <a:gdLst/>
              <a:ahLst/>
              <a:rect l="l" t="t" r="r" b="b"/>
              <a:pathLst>
                <a:path w="144" h="144">
                  <a:moveTo>
                    <a:pt x="144" y="0"/>
                  </a:moveTo>
                  <a:cubicBezTo>
                    <a:pt x="144" y="0"/>
                    <a:pt x="72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778520" y="2793960"/>
              <a:ext cx="166680" cy="2379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426080" y="3217680"/>
              <a:ext cx="361800" cy="163440"/>
            </a:xfrm>
            <a:custGeom>
              <a:avLst/>
              <a:gdLst/>
              <a:ahLst/>
              <a:rect l="l" t="t" r="r" b="b"/>
              <a:pathLst>
                <a:path w="228" h="103">
                  <a:moveTo>
                    <a:pt x="228" y="0"/>
                  </a:moveTo>
                  <a:cubicBezTo>
                    <a:pt x="190" y="17"/>
                    <a:pt x="47" y="82"/>
                    <a:pt x="0" y="10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818040" y="2774880"/>
              <a:ext cx="380880" cy="527040"/>
            </a:xfrm>
            <a:custGeom>
              <a:avLst/>
              <a:gdLst/>
              <a:ahLst/>
              <a:rect l="l" t="t" r="r" b="b"/>
              <a:pathLst>
                <a:path w="240" h="332">
                  <a:moveTo>
                    <a:pt x="0" y="0"/>
                  </a:moveTo>
                  <a:cubicBezTo>
                    <a:pt x="41" y="55"/>
                    <a:pt x="190" y="263"/>
                    <a:pt x="240" y="3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208560" y="2768400"/>
              <a:ext cx="317520" cy="196920"/>
            </a:xfrm>
            <a:custGeom>
              <a:avLst/>
              <a:gdLst/>
              <a:ahLst/>
              <a:rect l="l" t="t" r="r" b="b"/>
              <a:pathLst>
                <a:path w="200" h="124">
                  <a:moveTo>
                    <a:pt x="200" y="0"/>
                  </a:moveTo>
                  <a:cubicBezTo>
                    <a:pt x="167" y="21"/>
                    <a:pt x="42" y="98"/>
                    <a:pt x="0" y="12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533920" y="2738160"/>
              <a:ext cx="41436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100480" y="2781360"/>
              <a:ext cx="142920" cy="671400"/>
            </a:xfrm>
            <a:custGeom>
              <a:avLst/>
              <a:gdLst/>
              <a:ahLst/>
              <a:rect l="l" t="t" r="r" b="b"/>
              <a:pathLst>
                <a:path w="96" h="432">
                  <a:moveTo>
                    <a:pt x="96" y="0"/>
                  </a:moveTo>
                  <a:cubicBezTo>
                    <a:pt x="96" y="0"/>
                    <a:pt x="48" y="216"/>
                    <a:pt x="0" y="4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5566320" y="3733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362200" y="2771640"/>
              <a:ext cx="662040" cy="733320"/>
            </a:xfrm>
            <a:custGeom>
              <a:avLst/>
              <a:gdLst/>
              <a:ahLst/>
              <a:rect l="l" t="t" r="r" b="b"/>
              <a:pathLst>
                <a:path w="432" h="480">
                  <a:moveTo>
                    <a:pt x="0" y="0"/>
                  </a:moveTo>
                  <a:cubicBezTo>
                    <a:pt x="60" y="80"/>
                    <a:pt x="120" y="160"/>
                    <a:pt x="192" y="240"/>
                  </a:cubicBezTo>
                  <a:cubicBezTo>
                    <a:pt x="264" y="320"/>
                    <a:pt x="348" y="400"/>
                    <a:pt x="432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3200400"/>
              <a:ext cx="685800" cy="304560"/>
            </a:xfrm>
            <a:custGeom>
              <a:avLst/>
              <a:gdLst/>
              <a:ahLst/>
              <a:rect l="l" t="t" r="r" b="b"/>
              <a:pathLst>
                <a:path w="432" h="192">
                  <a:moveTo>
                    <a:pt x="432" y="0"/>
                  </a:moveTo>
                  <a:cubicBezTo>
                    <a:pt x="432" y="0"/>
                    <a:pt x="216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457680" y="3166920"/>
              <a:ext cx="252360" cy="1252440"/>
            </a:xfrm>
            <a:custGeom>
              <a:avLst/>
              <a:gdLst/>
              <a:ahLst/>
              <a:rect l="l" t="t" r="r" b="b"/>
              <a:pathLst>
                <a:path w="159" h="789">
                  <a:moveTo>
                    <a:pt x="0" y="0"/>
                  </a:moveTo>
                  <a:cubicBezTo>
                    <a:pt x="19" y="27"/>
                    <a:pt x="85" y="34"/>
                    <a:pt x="111" y="165"/>
                  </a:cubicBezTo>
                  <a:cubicBezTo>
                    <a:pt x="137" y="296"/>
                    <a:pt x="155" y="541"/>
                    <a:pt x="159" y="789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251400" y="3747960"/>
              <a:ext cx="74520" cy="2142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719680" y="3709800"/>
              <a:ext cx="304560" cy="252360"/>
            </a:xfrm>
            <a:custGeom>
              <a:avLst/>
              <a:gdLst/>
              <a:ahLst/>
              <a:rect l="l" t="t" r="r" b="b"/>
              <a:pathLst>
                <a:path w="240" h="144">
                  <a:moveTo>
                    <a:pt x="240" y="0"/>
                  </a:moveTo>
                  <a:cubicBezTo>
                    <a:pt x="240" y="0"/>
                    <a:pt x="12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067000" y="4186080"/>
              <a:ext cx="371520" cy="27612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705200" y="3276360"/>
              <a:ext cx="168120" cy="1175040"/>
            </a:xfrm>
            <a:custGeom>
              <a:avLst/>
              <a:gdLst/>
              <a:ahLst/>
              <a:rect l="l" t="t" r="r" b="b"/>
              <a:pathLst>
                <a:path w="106" h="740">
                  <a:moveTo>
                    <a:pt x="15" y="0"/>
                  </a:moveTo>
                  <a:cubicBezTo>
                    <a:pt x="7" y="84"/>
                    <a:pt x="0" y="165"/>
                    <a:pt x="15" y="288"/>
                  </a:cubicBezTo>
                  <a:cubicBezTo>
                    <a:pt x="30" y="411"/>
                    <a:pt x="87" y="646"/>
                    <a:pt x="106" y="74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871960" y="4243320"/>
              <a:ext cx="376200" cy="709560"/>
            </a:xfrm>
            <a:custGeom>
              <a:avLst/>
              <a:gdLst/>
              <a:ahLst/>
              <a:rect l="l" t="t" r="r" b="b"/>
              <a:pathLst>
                <a:path w="240" h="480">
                  <a:moveTo>
                    <a:pt x="240" y="0"/>
                  </a:moveTo>
                  <a:cubicBezTo>
                    <a:pt x="236" y="104"/>
                    <a:pt x="232" y="208"/>
                    <a:pt x="192" y="288"/>
                  </a:cubicBezTo>
                  <a:cubicBezTo>
                    <a:pt x="152" y="368"/>
                    <a:pt x="76" y="424"/>
                    <a:pt x="0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643360" y="4724280"/>
              <a:ext cx="74520" cy="20484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60"/>
                    <a:pt x="0" y="120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024080" y="4638600"/>
              <a:ext cx="1357200" cy="376200"/>
            </a:xfrm>
            <a:custGeom>
              <a:avLst/>
              <a:gdLst/>
              <a:ahLst/>
              <a:rect l="l" t="t" r="r" b="b"/>
              <a:pathLst>
                <a:path w="855" h="237">
                  <a:moveTo>
                    <a:pt x="0" y="0"/>
                  </a:moveTo>
                  <a:cubicBezTo>
                    <a:pt x="142" y="39"/>
                    <a:pt x="677" y="188"/>
                    <a:pt x="855" y="237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027240" y="4633920"/>
              <a:ext cx="596880" cy="1814400"/>
            </a:xfrm>
            <a:custGeom>
              <a:avLst/>
              <a:gdLst/>
              <a:ahLst/>
              <a:rect l="l" t="t" r="r" b="b"/>
              <a:pathLst>
                <a:path w="376" h="1143">
                  <a:moveTo>
                    <a:pt x="358" y="0"/>
                  </a:moveTo>
                  <a:cubicBezTo>
                    <a:pt x="316" y="25"/>
                    <a:pt x="162" y="102"/>
                    <a:pt x="105" y="151"/>
                  </a:cubicBezTo>
                  <a:cubicBezTo>
                    <a:pt x="48" y="200"/>
                    <a:pt x="30" y="230"/>
                    <a:pt x="15" y="293"/>
                  </a:cubicBezTo>
                  <a:cubicBezTo>
                    <a:pt x="0" y="356"/>
                    <a:pt x="8" y="434"/>
                    <a:pt x="15" y="529"/>
                  </a:cubicBezTo>
                  <a:cubicBezTo>
                    <a:pt x="23" y="623"/>
                    <a:pt x="45" y="789"/>
                    <a:pt x="60" y="860"/>
                  </a:cubicBezTo>
                  <a:cubicBezTo>
                    <a:pt x="75" y="930"/>
                    <a:pt x="53" y="907"/>
                    <a:pt x="105" y="954"/>
                  </a:cubicBezTo>
                  <a:cubicBezTo>
                    <a:pt x="158" y="1001"/>
                    <a:pt x="267" y="1072"/>
                    <a:pt x="376" y="1143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823920" y="5181480"/>
              <a:ext cx="524160" cy="26208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336" y="0"/>
                  </a:moveTo>
                  <a:cubicBezTo>
                    <a:pt x="336" y="0"/>
                    <a:pt x="168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943160" y="5119560"/>
              <a:ext cx="420840" cy="316080"/>
            </a:xfrm>
            <a:custGeom>
              <a:avLst/>
              <a:gdLst/>
              <a:ahLst/>
              <a:rect l="l" t="t" r="r" b="b"/>
              <a:pathLst>
                <a:path w="265" h="199">
                  <a:moveTo>
                    <a:pt x="0" y="0"/>
                  </a:moveTo>
                  <a:cubicBezTo>
                    <a:pt x="44" y="33"/>
                    <a:pt x="210" y="158"/>
                    <a:pt x="265" y="199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81000" y="5682960"/>
              <a:ext cx="171720" cy="228600"/>
            </a:xfrm>
            <a:custGeom>
              <a:avLst/>
              <a:gdLst/>
              <a:ahLst/>
              <a:rect l="l" t="t" r="r" b="b"/>
              <a:pathLst>
                <a:path w="108" h="144">
                  <a:moveTo>
                    <a:pt x="0" y="0"/>
                  </a:moveTo>
                  <a:cubicBezTo>
                    <a:pt x="17" y="24"/>
                    <a:pt x="86" y="114"/>
                    <a:pt x="108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43368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814560" y="5181480"/>
              <a:ext cx="504720" cy="25236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0" y="0"/>
                  </a:moveTo>
                  <a:cubicBezTo>
                    <a:pt x="0" y="0"/>
                    <a:pt x="168" y="72"/>
                    <a:pt x="33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449964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576680" y="5200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429240" y="4214520"/>
              <a:ext cx="133200" cy="2145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905080" y="5148000"/>
              <a:ext cx="1028880" cy="295560"/>
            </a:xfrm>
            <a:custGeom>
              <a:avLst/>
              <a:gdLst/>
              <a:ahLst/>
              <a:rect l="l" t="t" r="r" b="b"/>
              <a:pathLst>
                <a:path w="621" h="213">
                  <a:moveTo>
                    <a:pt x="0" y="0"/>
                  </a:moveTo>
                  <a:cubicBezTo>
                    <a:pt x="104" y="36"/>
                    <a:pt x="518" y="178"/>
                    <a:pt x="621" y="21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05400" y="5657760"/>
              <a:ext cx="357120" cy="27144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724520" y="5686200"/>
              <a:ext cx="1440" cy="2286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224480" y="5667120"/>
              <a:ext cx="309600" cy="266760"/>
            </a:xfrm>
            <a:custGeom>
              <a:avLst/>
              <a:gdLst/>
              <a:ahLst/>
              <a:rect l="l" t="t" r="r" b="b"/>
              <a:pathLst>
                <a:path w="240" h="192">
                  <a:moveTo>
                    <a:pt x="240" y="0"/>
                  </a:moveTo>
                  <a:cubicBezTo>
                    <a:pt x="240" y="0"/>
                    <a:pt x="12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456240" y="5676840"/>
              <a:ext cx="495360" cy="469800"/>
            </a:xfrm>
            <a:custGeom>
              <a:avLst/>
              <a:gdLst/>
              <a:ahLst/>
              <a:rect l="l" t="t" r="r" b="b"/>
              <a:pathLst>
                <a:path w="312" h="296">
                  <a:moveTo>
                    <a:pt x="312" y="0"/>
                  </a:moveTo>
                  <a:cubicBezTo>
                    <a:pt x="260" y="49"/>
                    <a:pt x="65" y="234"/>
                    <a:pt x="0" y="296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966840" y="6119640"/>
              <a:ext cx="42408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776480" y="5610240"/>
              <a:ext cx="2100240" cy="409320"/>
            </a:xfrm>
            <a:custGeom>
              <a:avLst/>
              <a:gdLst/>
              <a:ahLst/>
              <a:rect l="l" t="t" r="r" b="b"/>
              <a:pathLst>
                <a:path w="1323" h="258">
                  <a:moveTo>
                    <a:pt x="1323" y="0"/>
                  </a:moveTo>
                  <a:cubicBezTo>
                    <a:pt x="1279" y="22"/>
                    <a:pt x="1209" y="110"/>
                    <a:pt x="1058" y="134"/>
                  </a:cubicBezTo>
                  <a:cubicBezTo>
                    <a:pt x="907" y="158"/>
                    <a:pt x="594" y="125"/>
                    <a:pt x="418" y="146"/>
                  </a:cubicBezTo>
                  <a:cubicBezTo>
                    <a:pt x="242" y="167"/>
                    <a:pt x="87" y="235"/>
                    <a:pt x="0" y="258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067160" y="5695920"/>
              <a:ext cx="74880" cy="1951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22380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YPOVOLEMI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205080" y="5895720"/>
              <a:ext cx="45720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V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576240" y="5209920"/>
              <a:ext cx="84240" cy="20016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605040" y="637200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284520" y="5715000"/>
              <a:ext cx="1800" cy="393480"/>
            </a:xfrm>
            <a:custGeom>
              <a:avLst/>
              <a:gdLst/>
              <a:ahLst/>
              <a:rect l="l" t="t" r="r" b="b"/>
              <a:pathLst>
                <a:path w="1" h="248">
                  <a:moveTo>
                    <a:pt x="0" y="0"/>
                  </a:moveTo>
                  <a:cubicBezTo>
                    <a:pt x="0" y="41"/>
                    <a:pt x="0" y="196"/>
                    <a:pt x="0" y="248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809880" y="4233600"/>
              <a:ext cx="1440" cy="214560"/>
            </a:xfrm>
            <a:custGeom>
              <a:avLst/>
              <a:gdLst/>
              <a:ahLst/>
              <a:rect l="l" t="t" r="r" b="b"/>
              <a:pathLst>
                <a:path w="1" h="135">
                  <a:moveTo>
                    <a:pt x="0" y="0"/>
                  </a:moveTo>
                  <a:cubicBezTo>
                    <a:pt x="0" y="22"/>
                    <a:pt x="0" y="107"/>
                    <a:pt x="0" y="135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700600" y="2660400"/>
              <a:ext cx="1371600" cy="704880"/>
            </a:xfrm>
            <a:custGeom>
              <a:avLst/>
              <a:gdLst/>
              <a:ahLst/>
              <a:rect l="l" t="t" r="r" b="b"/>
              <a:pathLst>
                <a:path w="864" h="444">
                  <a:moveTo>
                    <a:pt x="0" y="0"/>
                  </a:moveTo>
                  <a:cubicBezTo>
                    <a:pt x="91" y="33"/>
                    <a:pt x="396" y="122"/>
                    <a:pt x="540" y="196"/>
                  </a:cubicBezTo>
                  <a:cubicBezTo>
                    <a:pt x="684" y="270"/>
                    <a:pt x="796" y="392"/>
                    <a:pt x="864" y="444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474800" y="2762280"/>
              <a:ext cx="15264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489360" y="3081240"/>
              <a:ext cx="1268640" cy="68400"/>
            </a:xfrm>
            <a:custGeom>
              <a:avLst/>
              <a:gdLst/>
              <a:ahLst/>
              <a:rect l="l" t="t" r="r" b="b"/>
              <a:pathLst>
                <a:path w="799" h="43">
                  <a:moveTo>
                    <a:pt x="799" y="43"/>
                  </a:moveTo>
                  <a:lnTo>
                    <a:pt x="0" y="0"/>
                  </a:ln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151320" y="3219480"/>
              <a:ext cx="7632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084640" y="4667040"/>
              <a:ext cx="380880" cy="3049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Bayes net: Al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y example of a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666880" y="1143000"/>
            <a:ext cx="930240" cy="746280"/>
          </a:xfrm>
          <a:prstGeom prst="ellipse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612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861080" y="1143000"/>
            <a:ext cx="930240" cy="746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0554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8610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0554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730680" y="2013120"/>
            <a:ext cx="930240" cy="745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925080" y="21718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6668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8612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597120" y="1515960"/>
            <a:ext cx="126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421080" y="1824120"/>
            <a:ext cx="465120" cy="30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527360" y="1827360"/>
            <a:ext cx="531720" cy="311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3530520" y="2697120"/>
            <a:ext cx="33336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594320" y="2573280"/>
            <a:ext cx="39996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915400" cy="109224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3657600" y="3886200"/>
            <a:ext cx="5105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g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33520" y="3886200"/>
            <a:ext cx="3276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rest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nb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410640" y="4537080"/>
            <a:ext cx="248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otential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2971800" y="4952880"/>
            <a:ext cx="91440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648320" y="4952880"/>
            <a:ext cx="83808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350160" y="6400800"/>
            <a:ext cx="23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artition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2590920" y="6248520"/>
            <a:ext cx="838080" cy="30456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vision_mrf" descr=""/>
          <p:cNvPicPr/>
          <p:nvPr/>
        </p:nvPicPr>
        <p:blipFill>
          <a:blip r:embed="rId1"/>
          <a:stretch/>
        </p:blipFill>
        <p:spPr>
          <a:xfrm>
            <a:off x="2590920" y="1143000"/>
            <a:ext cx="3703680" cy="28368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533520" y="4267080"/>
            <a:ext cx="8610480" cy="22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P(observe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: local evi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xp(-J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): compatibility matrix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f., Ising/Potts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308640" y="1184400"/>
            <a:ext cx="21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d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307560" y="2784600"/>
            <a:ext cx="183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nt ca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6T05:20:03Z</dcterms:created>
  <dc:creator>Kevin Murphy</dc:creator>
  <dc:description/>
  <dc:language>en-US</dc:language>
  <cp:lastModifiedBy>Kevin Murphy</cp:lastModifiedBy>
  <dcterms:modified xsi:type="dcterms:W3CDTF">2003-05-06T17:46:48Z</dcterms:modified>
  <cp:revision>40</cp:revision>
  <dc:subject/>
  <dc:title>The Bayes Net Toolbox for Matlab</dc:title>
</cp:coreProperties>
</file>